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AE7-61DB-4D79-A956-F23F0DCF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83A-C5F2-4067-B463-3B4C492B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5F2-4314-4F03-A14C-1FE2DAB1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7AB-D15A-4C1F-AABB-067AEE5E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C30-FB62-4C7C-B6DA-3DD13A22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1B3-A24E-43D7-8228-8E822D1A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72B-9A8B-487A-A45A-9F6C9307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310-66BA-44D2-8127-DF8CAB2E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CE1-6F90-4E05-BDB4-5BA4E11A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3F7-79AE-4B83-A5BF-6E31D61F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CF4-E706-4749-9589-93A050D5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CE0-C3A2-4999-9ABE-BD745D55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5C33-307C-45A3-BF12-F4B9B4986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My Question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362320"/>
            <a:ext cx="5181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call a young ins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do bush flies 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2438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y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67080" y="3276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t and 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nnifer.doeur</cp:lastModifiedBy>
  <dcterms:modified xsi:type="dcterms:W3CDTF">2009-06-16T00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